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749D-33C7-4F8C-B3DB-C89DE5DC3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4580-9700-4C7C-A282-4DAD21D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9B8355-0666-484D-A406-29C487B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26FC7-C81B-4ABC-B402-56325EB5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EC8AE-899F-4866-8F6F-939A0B47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FD597-5609-4CE8-B8FA-D6F1F88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02300-ED6E-45C3-B6C9-B4D7695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E94D9C-1684-4748-920B-90972F26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DBD7A-949F-44E0-958B-368374FE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A1CA38-5FE8-43E3-987F-A97B796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B14193-3389-4270-861B-3EACD003B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D78E-EBBE-494F-AB3E-CA558F29C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A17E-0EF4-47A1-815B-B32F517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5220F-A2E6-4F47-9316-D0D8D5B5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C57D8-D74B-4CF0-A6D8-FB8FDF4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86FC5-9459-463E-B0A0-4FC0BD3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669B3-B59F-4336-BD79-9C0D0570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CC0B-DBCD-464D-A3EB-A23B696B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D8C80-5C08-4AE0-A7A4-D30C2994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4890-6BF5-4404-A3BC-A062DDAF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3F15-5049-4FB9-BC09-E6FB12EE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5F6DE-90C6-4A0A-81F2-9110E16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9903-D0B0-42AC-BAB8-AEE4672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CE6A-972F-401D-A086-D41B68C6AB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9787-BFBF-456F-B74A-5E75A1E4A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D7374-3767-47A7-BA0B-6216D2274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2DFEF-D7B2-4E8B-B794-5DF702AA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AA280-597B-4BA4-A995-88847D2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C0841-075E-4170-A15E-EBD45BCA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CDE2B-6DAD-46BE-B111-238AA13D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55A61-C91E-471C-BEAC-84AFCAF8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6A1E2-A7F9-4F72-85F7-80B09033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73693-73CD-420A-8AC0-19B41E7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1A438C-5006-4DFA-8E86-F01EE01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C5230-D58D-4D0E-9A3F-F7AA0BF7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7F605A-2BCD-45CE-80BD-06CC1EF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89B14-4FEB-4678-BF66-334657D6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2C389A-3639-4D7A-9368-2F877140C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E615B-359E-46D5-B12F-F8D78CAE0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F11BE-27B8-4AC7-A3AE-0CB4279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B0DC4-3658-4115-ADE1-3CD8C3D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7B5DA-35CC-4B0F-95FA-492E79D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4D3BD-403E-465A-8622-03A902A2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D96D2-EDC2-432C-B529-542E3CA9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EB9EB-AE63-448C-A385-7471632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8AAE-F27D-4699-93C3-77890EF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BF526-5A40-4988-95D6-39221CE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18E06-07C4-42AE-A832-2BC5E57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BA054-C486-4F12-84EF-A37BE96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C6EB8-04C0-43EE-826D-C5CF9DD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F164F-76DB-4163-808E-9C2964572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8A8F-5F50-4212-9B4E-918AD498F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8F5F-CC42-4DE0-B934-9D78CB34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90D87-0785-4D6F-8933-0FDF33A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A5DA1-F567-484C-A7E5-C18AE644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EC106-A28E-40F4-BD6F-82D1DA83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0C9E-A8B6-47D3-9193-E438B97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1D54-9E43-4416-8019-C14B0A84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AA701-290E-44BC-85EA-B5FC3BE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9E477-65FB-4B75-B1E3-500475F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D01B0-161F-4385-AD84-D426F444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304A4-FBE8-45F8-8273-9832419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5E05F-E3EF-445F-AABE-3284725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A2EFF-7375-4CC4-BC86-CDCAD9151E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202E9-31DC-4B1D-A5DA-74797346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B6507-7096-4B6B-ADE6-3697D28A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A64A-F609-49C0-9051-7556238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C85C1-4761-4478-BB57-0FD87DD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E65F8-3644-4AF5-90A7-931CD99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058F-EDDF-4C24-8F26-0F101B0F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B5D42-9F8F-40A4-AA34-E9F265D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4A258-931A-4FAF-901D-4A58C3D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5251-A32A-4365-9446-1659B7B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65401-95DE-4193-BB43-87BFE15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64BF4-D3E6-40BB-B49B-BAF8DF9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9C3B-1CE0-44C1-9561-890F6235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473F4-4BAF-4F1E-9906-BC81206A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400D4-A8EB-4614-AC48-724F4DF1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95888-9954-41E0-858A-8EBD35B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ED5EA-F9AC-4443-87A4-30BA7AD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EF7A7-64E9-4D0F-8A8E-D2D89F86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A967-86C2-46C2-AA40-15756437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78AF8-E005-4F99-851D-34491684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1EC92-08BA-4B5E-950A-57B1F22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22938-4F21-4F61-9B9C-8BBE7B7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B824C-1BB1-4AD2-B09D-BD9FFB0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0941-7F46-4BC5-8403-F966D30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54039-B632-4207-8F7A-BE8DFD6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5A78C-9CFD-4041-95B1-0EFE540C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8741-6F73-4AEE-8987-D6B47D2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A5670-4D26-456D-8A3E-8D2096CB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A8CC1-3FB7-4663-8D56-9E92675B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43FFA-46F9-44AC-89B7-449D6D0A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F3499-FDCB-456C-8D26-3367F305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4F495-29B3-420B-8DE0-D4A6D25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C3A2B-DDA7-43BF-8DF5-9292551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02B5-C067-4DAE-9B69-05C7842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33C8-70C6-4E0D-A262-BE628EA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141F7-16B2-4894-A85D-C8EFF31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9C659-CC62-4C4A-B662-4028E67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A0E17-7D1B-4F04-B17F-9AA736E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855C1-D482-44D4-A596-DB266C6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AB74D-71C5-4C1B-B892-18BE36DA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9976E-DE57-4A4A-A403-9E2F32F3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DBCFC-5F41-47FE-9185-1E7E5FA8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102BB-37AF-43F4-992F-EDE59EE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E0513-FA2D-4DF8-BE0A-8BCAFAE8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058D-2AC4-432B-8FAA-FD7D0DA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8D439-64FD-4024-909D-7C7A96FA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1DCEB-5F58-4C43-978A-A7BD6136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4141F-68EF-4327-BA5D-E8DD3D3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CB2D-F43D-42A2-847F-D0B16486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1CAFD-011B-42D6-81A6-BB8283F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7C704-E5B7-4F06-A337-5510DAB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42A6-71B2-45CC-8460-CC23AFC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E650F-D723-494A-9C15-A79A1CB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48286-2380-4399-94F6-AF396BBE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32E05-16EE-488C-8FEF-87CD166E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78AB0-1FD1-49E1-83ED-7C4DA090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FB399-C7AF-46CB-B44E-2DC397B4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1FDA6-AFA5-42AA-A360-48F401C1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2A29E-E9EC-43A2-9C0A-B2BC49A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4700E-F735-4CAB-B177-8F461F7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2853-EC8A-4C38-BCB1-26CCC0D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AC275-50E5-4779-9376-5F9951BC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160CD-80BC-4A8F-917B-94DA48A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509E8-1C1D-4301-AF6F-1D60228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2B339-D2FE-4AE2-9DCA-7641350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78DB5-B5B5-49E8-932D-49EF9D7F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0EE0F-D99C-47FA-923B-54A051C7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D6B60-6C31-4255-8454-C4B6E248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B1E9F-2DEF-4973-944A-72943B52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11F19-7647-4BC9-8050-7C2230E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AA328-15B8-44D9-AB95-82DCC86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0E412-0A96-4DBD-BD24-B641753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0EEA1-1844-4C5D-8B6A-EBC7B34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874AB-2C02-4A5D-BCBF-1E000FD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6CD63-C5DC-410E-B84E-7D56503E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96B95-388B-45D3-962C-E1CB9DC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513DF-8F45-4323-BBED-4AE7D0E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9817F-7254-4524-A9F4-1F42302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94CD6-399C-44A0-82E0-218C28F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64132-9D1D-44F4-B54F-9D366CAB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5909D-A435-4767-AFD7-B3DBF3CD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B89B0-F051-4FA2-A629-010451DD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719DF-EA24-4D5D-9EBC-88651C0E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9F50B-F409-4E3A-BBDC-4366D74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72B29-E0C4-4491-8F56-B59B672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3A34-464A-413B-8348-C523613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E80BB-5CE3-43C9-995E-EDEA84E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D03C1-9731-4440-92A5-D008D812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D3041-BBDD-42AC-B57B-7ECA49A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FB81A-B114-4EA2-BB4C-47A6FA9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9B92E-F852-49DF-98B7-97A11F5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2276E-D61E-43A5-AD4C-BF85CA68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1F071-2F06-42D1-BB78-E08B4CAC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A06BE-30F0-460A-9E97-04C326F2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ECD97-5AAF-468B-870B-83D2D395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E735D-610C-4E40-8EDE-04D7487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E4436-DC8F-4871-8E48-44F5CF4D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234D3-1689-4B23-8708-2D4051C3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74713-D957-4551-8D9F-EFD973ED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AA3C3-E00A-40DD-9EDE-D27655F1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18F2F-32AF-4177-AB79-6F868E51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635E6-4550-41D8-ABDB-7E2491AE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DDE28-583A-4A4C-9E13-C704095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C1314-A4C6-49F3-9062-FB1D03F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A76BC-6E99-4FE7-BEA2-E5EFF2C3D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B5848-9515-4A86-AB0C-FCDA6B7B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6DA6E-3CFC-4E15-98C6-B54D968E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E030D-2094-43FE-ACD9-227CA2F0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AB78B-AA02-4EA9-A405-82266A91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F8BAE-3596-4229-A971-18C8343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93787-4165-4C48-A439-23A5110B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14C4E-8C57-42E1-A7D2-F10A079B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CF817-B5EA-4980-838F-78ABBF8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CC41A-D05E-46B1-8FDD-B80FD21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45BC7-6E94-42B6-B0D6-8D010A6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6FA91-93F0-49C8-8862-67E7C7BB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CAD1C-C64E-45BE-8E0D-94AA56D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28EF1-B275-4D40-8DFE-6FFC7FC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74D20-DB36-4841-8EE9-B0E58B93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433ED-62AF-47BC-BC06-3FAA0C3F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71E0B-70BE-417B-995D-A81792F2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601A3-DCD0-4555-813C-1A78507C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D13D3-6FBF-4BA0-AA26-6DE758F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80AB0-D7C5-42EB-BCA9-0A99A6CB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711D7-6FFA-4AB6-BCE2-CCEB0A4E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B39ED-6656-44DF-B8C3-77CD1CBD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87878-A92B-42A2-9F7E-9480B61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14FF0-6827-4657-ABCD-38DBF7BD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6E1F4-861E-430F-8908-048348E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5F675-DC33-4DEA-AE29-ED948DF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67829-05B8-49D2-A7CE-966D07A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8D587-9928-4958-8BDF-CED3DB5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A7A7F-6E1A-4EBF-9865-FCAEE6DB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52CEA-3FBD-4D09-9651-31E36B3C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F7177-11CD-4AD6-99C5-BDEBB321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59C0A-3FB7-4B13-ADE7-064A7E00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77F9A-EA27-4A73-A4C8-FF47E969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A9B60-8B5C-4667-8830-B5BCB25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B651A-651B-44D4-ABF9-DAF39CC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D960F-87D8-4948-B8C1-28271373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FEC4B-9206-4DF9-80DB-A3EEB5A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F2763-8BDD-4C80-A86E-534CDA0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7ED35-1D3F-4BB4-BA4A-0D43005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80FEC-33E1-4CD6-8658-F3C0518A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22A70-CF79-4878-8DD0-021FE16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DA0F8-C4AB-4023-85BD-0525F2CE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D5D41-B6F5-4802-8940-02F82B85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D6A53-9868-4F71-ADAA-3DA362F6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D037-7A17-475D-A1A7-F63CA45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A9129-E88F-4153-B940-1AFC0365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2310C-F975-4F44-B90C-B4AEE9E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5A044-A092-463D-AFA6-A5A4827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302FD-4064-4286-9A25-3FD18CB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2C993-CB28-4E27-806A-C904635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E7AB7-D111-434D-8139-1520EC1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EC016-DF99-4823-B541-070722D19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9934-87A9-4D88-ABAD-09C33953F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3954-71A3-4EF9-91DD-01BD6C1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1F10-663A-4514-B334-EA83763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B9A0-D12E-4FB4-A1CA-81822D51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A615-D035-43E4-844E-554185C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96A3-E333-4707-814F-DBF7ACC2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2CD6-E8E5-4026-AD83-FD9C0EC3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9E97-2AC8-465A-8AAD-C60C0A3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08D2-F0F4-4AD4-8EBE-B51307C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AF3F-64AE-4C63-9BC3-CE553C7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221A-B4FD-4996-8072-7335D696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A472-B4E7-4381-9A18-DBEA4E1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138C-2F6C-413B-99A7-D24309F4B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2734A-FFEB-4EF5-B967-615459131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5F30-0CDC-4DD1-9452-3FC71FEE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44F6F-FA83-46B6-8453-78D893A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F532C-28DB-4639-B7ED-BB6E90E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D09CE-DFFE-40C4-AF9C-76D3294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29D6B-8DF4-49A4-A51F-E421F6B9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AF94D-5860-4F2F-94FE-B2E86F2D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12511-010B-49C8-BE27-44CF4C2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8BD7A-576D-461F-A1AA-D85EA181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E3EF6-9994-4FE1-9264-C8047F4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BB755-34B9-4807-9FC1-90E464B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FD7C7-0B7C-42E1-BD1F-61947B7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ED0D-4308-4FCA-91C4-50F59BA4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029A0-8E83-405D-A1CA-EB2E8BA39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563D8-70B4-4CB6-AF5C-1F3F07B0E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38D8F-5372-408C-998A-E093356A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F9075-47B0-4E78-95B5-4EABCE1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1D8E2-062C-4299-AC4C-68D8DE81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BBDF7-3C6A-48FE-A917-C8BF26DA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66809-3FBD-4E34-A81F-3BB41584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4860B-84D4-47B2-8D27-F8D584CE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014EA-916B-4C20-A3DC-B14593C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455FC-C15A-4324-9539-5142B36B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A81C-28A3-4A0E-BFD0-C2B44FF3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6D089-EAEC-42D7-9C52-EC6F80DF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43CBF-EC8D-44E9-A8B8-A73DCD2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78244-1607-4D2B-B911-1910D9098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AE8B-808C-4274-AF4E-ABD8D5805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DC535-5859-4DD3-A23E-E303FEE1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98BA-693D-43E4-915C-64206DE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E828-0A8E-4E6A-9F68-6720474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89C6A-5B4C-4DAC-A6A7-69E0BD2D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607D-21CF-4B4B-97B8-27AD9DC0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CEA1-57A1-45B7-9704-D081CA6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7D71-C91D-438B-8040-C8B60D9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5DCF-3B88-4964-BCF4-FB5BDD0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7D91-97D5-4503-947D-BC541F27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4406-5DDB-47E4-A6F8-1BE5F3E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4E945-2A90-45A8-96CF-0D77451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0462-A381-4493-A37E-E6F2FBC09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B61D9-7400-4F35-BE91-0D2D7463C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FD6C7-6BCF-428D-B500-73786DE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B4664-03A1-4346-8EAF-ED79170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BC2FE-427F-4234-8C1C-0D6676BE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AAA4C-24EC-4242-A71F-D9DA57E8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FA46-A4CA-459F-90FB-9933E513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59D9B-9FAE-49A2-B1CD-582A3E5C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9F4E5-F343-4615-A6EA-9760AA71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C2922-C935-4A23-8AFA-D2AC3A8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A84E1-E4EE-469B-81A9-3CC011A7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9370C-0581-4350-947A-E798032A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AEF33-C603-4203-A985-76B32B5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6066D-BCEB-4D28-B05F-8225CE58F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A8D775-0EE8-4878-858D-54B75F5EE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D3208-AD21-4649-9F18-2F1B9076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5B10A-2B9C-42C7-B974-04F9FB3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C91-6F32-4EB0-A1B9-0337F124B4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6CB-1C7D-4368-BD28-2DB39ECCDB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BD1-AD6B-4D93-95A4-643CB80B2F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4B7-3842-4ABA-B36B-50C3D35736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9F27-D3A6-468F-BA7B-0700A1B161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37CE-F462-4E33-89BA-84AEB693A1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320-3B5A-4104-BFD1-9D1B025088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ED55-D586-404F-840E-2580629E6E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5B62-4DCE-423B-8B8A-8F24959513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415-E891-4A59-8133-2F176D4CA0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CD74-82AC-40C5-B12F-6FC8490677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C1C-B3B7-44C1-82EA-BFF2C30946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3C6-2047-4DE7-90F1-685832D44D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BED-F67E-49D7-95F9-DEB6242990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1935-71A3-40CB-84A7-6C9CFDA773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C94-3294-441E-A614-D7041D5E1F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4D2-9C87-434A-A998-7CCBB824BC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64B-B8B7-49D0-97C9-51FF4B112A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1770-C69F-409C-8F14-A69064C6C0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C34-CD08-4CDC-96E6-DA87E454D6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A27D-BEEE-4625-9D99-862BB224BD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34D9-0C96-4FE4-8321-C5AA5D61F2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B46-1396-41D0-8F8F-16DDD2396B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718-3C8C-4435-8328-08B3E78ED0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050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改 写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9"/>
          <p:cNvSpPr/>
          <p:nvPr/>
        </p:nvSpPr>
        <p:spPr>
          <a:xfrm>
            <a:off x="500040" y="77004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们学会了读数和写数，现在大家来比一比，看谁能很快地写出下面的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光的速度是每秒三十万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国国土面积是九百六十万平方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6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国有七十八万所中小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8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某乡镇去年的财政总收入是六千零二十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2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102096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0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3"/>
          <p:cNvSpPr/>
          <p:nvPr/>
        </p:nvSpPr>
        <p:spPr>
          <a:xfrm>
            <a:off x="0" y="714240"/>
            <a:ext cx="9072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0000  9600000  780000  60200000  3936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0" y="1928880"/>
            <a:ext cx="6172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这些数有什么共同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985680" y="2571840"/>
            <a:ext cx="6634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00000=3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600000=96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780000=7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0200000=602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9360000=393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39940"/>
          <p:cNvSpPr/>
          <p:nvPr/>
        </p:nvSpPr>
        <p:spPr>
          <a:xfrm>
            <a:off x="6144840" y="193500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都是整万的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0" y="85680"/>
            <a:ext cx="3244680" cy="525600"/>
            <a:chOff x="0" y="85680"/>
            <a:chExt cx="3244680" cy="525600"/>
          </a:xfrm>
        </p:grpSpPr>
        <p:pic>
          <p:nvPicPr>
            <p:cNvPr id="10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8568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80720"/>
              <a:ext cx="429840" cy="273600"/>
              <a:chOff x="0" y="180720"/>
              <a:chExt cx="429840" cy="273600"/>
            </a:xfrm>
          </p:grpSpPr>
          <p:sp>
            <p:nvSpPr>
              <p:cNvPr id="1018" name="椭圆 11"/>
              <p:cNvSpPr/>
              <p:nvPr/>
            </p:nvSpPr>
            <p:spPr>
              <a:xfrm rot="16200000">
                <a:off x="242640" y="3448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0780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42640" y="21816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1951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43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59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088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07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6" name="图片 40961" descr="5"/>
          <p:cNvPicPr/>
          <p:nvPr/>
        </p:nvPicPr>
        <p:blipFill>
          <a:blip r:embed="rId8"/>
          <a:stretch/>
        </p:blipFill>
        <p:spPr>
          <a:xfrm>
            <a:off x="457200" y="1292400"/>
            <a:ext cx="3276720" cy="209844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1"/>
          <p:cNvSpPr/>
          <p:nvPr/>
        </p:nvSpPr>
        <p:spPr>
          <a:xfrm>
            <a:off x="4384800" y="1955880"/>
            <a:ext cx="42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活动：介绍白细胞和红细胞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4384800" y="2478240"/>
            <a:ext cx="3867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问题：怎样把红、白细胞的数量改写成用“万” 作单位的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4648320" y="3579840"/>
            <a:ext cx="360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去掉个级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，改写成一个“万”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组合 3"/>
          <p:cNvGrpSpPr/>
          <p:nvPr/>
        </p:nvGrpSpPr>
        <p:grpSpPr>
          <a:xfrm>
            <a:off x="3548160" y="946080"/>
            <a:ext cx="2208240" cy="381240"/>
            <a:chOff x="3548160" y="946080"/>
            <a:chExt cx="2208240" cy="381240"/>
          </a:xfrm>
        </p:grpSpPr>
        <p:sp>
          <p:nvSpPr>
            <p:cNvPr id="1031" name="文本框 40966"/>
            <p:cNvSpPr/>
            <p:nvPr/>
          </p:nvSpPr>
          <p:spPr>
            <a:xfrm>
              <a:off x="4560120" y="94788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红细胞：能输送氧气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圆角矩形标注 40967"/>
            <p:cNvSpPr/>
            <p:nvPr/>
          </p:nvSpPr>
          <p:spPr>
            <a:xfrm>
              <a:off x="3548160" y="946080"/>
              <a:ext cx="2208240" cy="381240"/>
            </a:xfrm>
            <a:prstGeom prst="wedgeRoundRectCallout">
              <a:avLst>
                <a:gd name="adj1" fmla="val -43750"/>
                <a:gd name="adj2" fmla="val 89999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"/>
          <p:cNvGrpSpPr/>
          <p:nvPr/>
        </p:nvGrpSpPr>
        <p:grpSpPr>
          <a:xfrm>
            <a:off x="279360" y="3502080"/>
            <a:ext cx="1844640" cy="762120"/>
            <a:chOff x="279360" y="3502080"/>
            <a:chExt cx="1844640" cy="762120"/>
          </a:xfrm>
        </p:grpSpPr>
        <p:sp>
          <p:nvSpPr>
            <p:cNvPr id="1034" name="文本框 40965"/>
            <p:cNvSpPr/>
            <p:nvPr/>
          </p:nvSpPr>
          <p:spPr>
            <a:xfrm>
              <a:off x="279360" y="35622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白细胞：能消灭病菌，清洁血液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圆角矩形标注 40968"/>
            <p:cNvSpPr/>
            <p:nvPr/>
          </p:nvSpPr>
          <p:spPr>
            <a:xfrm>
              <a:off x="285480" y="3502080"/>
              <a:ext cx="1828800" cy="762120"/>
            </a:xfrm>
            <a:prstGeom prst="wedgeRoundRectCallout">
              <a:avLst>
                <a:gd name="adj1" fmla="val -2777"/>
                <a:gd name="adj2" fmla="val -76666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4"/>
          <p:cNvGrpSpPr/>
          <p:nvPr/>
        </p:nvGrpSpPr>
        <p:grpSpPr>
          <a:xfrm>
            <a:off x="531720" y="4478400"/>
            <a:ext cx="5636520" cy="1839960"/>
            <a:chOff x="531720" y="4478400"/>
            <a:chExt cx="5636520" cy="1839960"/>
          </a:xfrm>
        </p:grpSpPr>
        <p:sp>
          <p:nvSpPr>
            <p:cNvPr id="1039" name="矩形 40970"/>
            <p:cNvSpPr/>
            <p:nvPr/>
          </p:nvSpPr>
          <p:spPr>
            <a:xfrm>
              <a:off x="4450320" y="5375520"/>
              <a:ext cx="79344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40971"/>
            <p:cNvSpPr/>
            <p:nvPr/>
          </p:nvSpPr>
          <p:spPr>
            <a:xfrm>
              <a:off x="4450320" y="5801040"/>
              <a:ext cx="79344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40972"/>
            <p:cNvSpPr/>
            <p:nvPr/>
          </p:nvSpPr>
          <p:spPr>
            <a:xfrm>
              <a:off x="2324880" y="5237280"/>
              <a:ext cx="3843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红细胞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00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40973"/>
            <p:cNvSpPr/>
            <p:nvPr/>
          </p:nvSpPr>
          <p:spPr>
            <a:xfrm>
              <a:off x="531720" y="4478400"/>
              <a:ext cx="288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一小滴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血液含有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3" name="图片 40974" descr="21"/>
            <p:cNvPicPr/>
            <p:nvPr/>
          </p:nvPicPr>
          <p:blipFill>
            <a:blip r:embed="rId9"/>
            <a:stretch/>
          </p:blipFill>
          <p:spPr>
            <a:xfrm>
              <a:off x="758880" y="5016600"/>
              <a:ext cx="156600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文本框 40975"/>
            <p:cNvSpPr/>
            <p:nvPr/>
          </p:nvSpPr>
          <p:spPr>
            <a:xfrm>
              <a:off x="2311920" y="5650200"/>
              <a:ext cx="3567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白细胞：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2"/>
          <p:cNvSpPr/>
          <p:nvPr/>
        </p:nvSpPr>
        <p:spPr>
          <a:xfrm>
            <a:off x="5506920" y="5380200"/>
            <a:ext cx="309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1"/>
          <p:cNvGrpSpPr/>
          <p:nvPr/>
        </p:nvGrpSpPr>
        <p:grpSpPr>
          <a:xfrm>
            <a:off x="431640" y="706320"/>
            <a:ext cx="1886040" cy="459720"/>
            <a:chOff x="431640" y="706320"/>
            <a:chExt cx="1886040" cy="459720"/>
          </a:xfrm>
        </p:grpSpPr>
        <p:sp>
          <p:nvSpPr>
            <p:cNvPr id="1047" name="TextBox 3"/>
            <p:cNvSpPr/>
            <p:nvPr/>
          </p:nvSpPr>
          <p:spPr>
            <a:xfrm>
              <a:off x="536400" y="706320"/>
              <a:ext cx="17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缺角矩形 37"/>
            <p:cNvSpPr/>
            <p:nvPr/>
          </p:nvSpPr>
          <p:spPr>
            <a:xfrm>
              <a:off x="431640" y="82692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文本框 3"/>
          <p:cNvSpPr/>
          <p:nvPr/>
        </p:nvSpPr>
        <p:spPr>
          <a:xfrm>
            <a:off x="438120" y="1046160"/>
            <a:ext cx="826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都是整万数，把整万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，就是把计数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0"/>
          <p:cNvGrpSpPr/>
          <p:nvPr/>
        </p:nvGrpSpPr>
        <p:grpSpPr>
          <a:xfrm>
            <a:off x="431640" y="2368440"/>
            <a:ext cx="6926400" cy="2354040"/>
            <a:chOff x="431640" y="2368440"/>
            <a:chExt cx="6926400" cy="2354040"/>
          </a:xfrm>
        </p:grpSpPr>
        <p:grpSp>
          <p:nvGrpSpPr>
            <p:cNvPr id="1051" name="组合 38"/>
            <p:cNvGrpSpPr/>
            <p:nvPr/>
          </p:nvGrpSpPr>
          <p:grpSpPr>
            <a:xfrm>
              <a:off x="431640" y="2368440"/>
              <a:ext cx="2148120" cy="459720"/>
              <a:chOff x="431640" y="2368440"/>
              <a:chExt cx="2148120" cy="459720"/>
            </a:xfrm>
          </p:grpSpPr>
          <p:sp>
            <p:nvSpPr>
              <p:cNvPr id="1052" name="TextBox 3"/>
              <p:cNvSpPr/>
              <p:nvPr/>
            </p:nvSpPr>
            <p:spPr>
              <a:xfrm>
                <a:off x="536040" y="2368440"/>
                <a:ext cx="204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缺角矩形 40"/>
              <p:cNvSpPr/>
              <p:nvPr/>
            </p:nvSpPr>
            <p:spPr>
              <a:xfrm>
                <a:off x="431640" y="24890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文本框 4"/>
            <p:cNvSpPr/>
            <p:nvPr/>
          </p:nvSpPr>
          <p:spPr>
            <a:xfrm>
              <a:off x="927000" y="2982600"/>
              <a:ext cx="643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画出分级线，将整万数分成个级和万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0 0000                    1 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8"/>
            <p:cNvSpPr/>
            <p:nvPr/>
          </p:nvSpPr>
          <p:spPr>
            <a:xfrm>
              <a:off x="2402280" y="3695040"/>
              <a:ext cx="0" cy="4446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直接连接符 9"/>
            <p:cNvSpPr/>
            <p:nvPr/>
          </p:nvSpPr>
          <p:spPr>
            <a:xfrm>
              <a:off x="5024520" y="3704040"/>
              <a:ext cx="0" cy="4446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27"/>
          <p:cNvGrpSpPr/>
          <p:nvPr/>
        </p:nvGrpSpPr>
        <p:grpSpPr>
          <a:xfrm>
            <a:off x="950760" y="4146480"/>
            <a:ext cx="7007400" cy="1674360"/>
            <a:chOff x="950760" y="4146480"/>
            <a:chExt cx="7007400" cy="1674360"/>
          </a:xfrm>
        </p:grpSpPr>
        <p:grpSp>
          <p:nvGrpSpPr>
            <p:cNvPr id="1058" name="组合 24"/>
            <p:cNvGrpSpPr/>
            <p:nvPr/>
          </p:nvGrpSpPr>
          <p:grpSpPr>
            <a:xfrm>
              <a:off x="950760" y="4146480"/>
              <a:ext cx="7007400" cy="1615680"/>
              <a:chOff x="950760" y="4146480"/>
              <a:chExt cx="7007400" cy="1615680"/>
            </a:xfrm>
          </p:grpSpPr>
          <p:sp>
            <p:nvSpPr>
              <p:cNvPr id="1059" name="文本框 6"/>
              <p:cNvSpPr/>
              <p:nvPr/>
            </p:nvSpPr>
            <p:spPr>
              <a:xfrm>
                <a:off x="950760" y="4146480"/>
                <a:ext cx="7007400" cy="12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将个级的四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省略，换成一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字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0 0000=5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0000=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直接连接符 12"/>
              <p:cNvSpPr/>
              <p:nvPr/>
            </p:nvSpPr>
            <p:spPr>
              <a:xfrm>
                <a:off x="2427840" y="4946400"/>
                <a:ext cx="0" cy="44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直接连接符 14"/>
              <p:cNvSpPr/>
              <p:nvPr/>
            </p:nvSpPr>
            <p:spPr>
              <a:xfrm>
                <a:off x="5099400" y="4945680"/>
                <a:ext cx="0" cy="44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直接连接符 16"/>
              <p:cNvSpPr/>
              <p:nvPr/>
            </p:nvSpPr>
            <p:spPr>
              <a:xfrm>
                <a:off x="5194440" y="5317200"/>
                <a:ext cx="647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直接连接符 19"/>
              <p:cNvSpPr/>
              <p:nvPr/>
            </p:nvSpPr>
            <p:spPr>
              <a:xfrm>
                <a:off x="5513760" y="5324400"/>
                <a:ext cx="0" cy="431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直接连接符 20"/>
              <p:cNvSpPr/>
              <p:nvPr/>
            </p:nvSpPr>
            <p:spPr>
              <a:xfrm flipH="1">
                <a:off x="5512680" y="5750280"/>
                <a:ext cx="8636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5" name="直接箭头连接符 21"/>
              <p:cNvCxnSpPr/>
              <p:nvPr/>
            </p:nvCxnSpPr>
            <p:spPr>
              <a:xfrm flipH="1" flipV="1">
                <a:off x="6367680" y="5325480"/>
                <a:ext cx="1080" cy="43236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grpSp>
            <p:nvGrpSpPr>
              <p:cNvPr id="1066" name="组合 23"/>
              <p:cNvGrpSpPr/>
              <p:nvPr/>
            </p:nvGrpSpPr>
            <p:grpSpPr>
              <a:xfrm>
                <a:off x="2505960" y="5323680"/>
                <a:ext cx="1454040" cy="438480"/>
                <a:chOff x="2505960" y="5323680"/>
                <a:chExt cx="1454040" cy="438480"/>
              </a:xfrm>
            </p:grpSpPr>
            <p:sp>
              <p:nvSpPr>
                <p:cNvPr id="1067" name="直接连接符 15"/>
                <p:cNvSpPr/>
                <p:nvPr/>
              </p:nvSpPr>
              <p:spPr>
                <a:xfrm>
                  <a:off x="2505960" y="5323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直接连接符 17"/>
                <p:cNvSpPr/>
                <p:nvPr/>
              </p:nvSpPr>
              <p:spPr>
                <a:xfrm>
                  <a:off x="2808720" y="5330520"/>
                  <a:ext cx="0" cy="43164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直接连接符 18"/>
                <p:cNvSpPr/>
                <p:nvPr/>
              </p:nvSpPr>
              <p:spPr>
                <a:xfrm flipH="1">
                  <a:off x="2804400" y="5748840"/>
                  <a:ext cx="115164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70" name="直接箭头连接符 22"/>
                <p:cNvCxnSpPr/>
                <p:nvPr/>
              </p:nvCxnSpPr>
              <p:spPr>
                <a:xfrm flipH="1" flipV="1">
                  <a:off x="3959280" y="5325840"/>
                  <a:ext cx="1080" cy="432360"/>
                </a:xfrm>
                <a:prstGeom prst="straightConnector1">
                  <a:avLst/>
                </a:prstGeom>
                <a:ln w="12600">
                  <a:solidFill>
                    <a:srgbClr val="ff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1071" name="文本框 25"/>
            <p:cNvSpPr/>
            <p:nvPr/>
          </p:nvSpPr>
          <p:spPr>
            <a:xfrm>
              <a:off x="3015720" y="5420160"/>
              <a:ext cx="79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26"/>
            <p:cNvSpPr/>
            <p:nvPr/>
          </p:nvSpPr>
          <p:spPr>
            <a:xfrm>
              <a:off x="5594400" y="5421960"/>
              <a:ext cx="7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4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99"/>
          <p:cNvSpPr/>
          <p:nvPr/>
        </p:nvSpPr>
        <p:spPr>
          <a:xfrm>
            <a:off x="736560" y="1039680"/>
            <a:ext cx="772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下面各数改写成用“万”或“亿”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2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000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02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000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1"/>
          <p:cNvSpPr/>
          <p:nvPr/>
        </p:nvSpPr>
        <p:spPr>
          <a:xfrm>
            <a:off x="2441520" y="17287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2"/>
          <p:cNvSpPr/>
          <p:nvPr/>
        </p:nvSpPr>
        <p:spPr>
          <a:xfrm>
            <a:off x="2992320" y="22939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3"/>
          <p:cNvSpPr/>
          <p:nvPr/>
        </p:nvSpPr>
        <p:spPr>
          <a:xfrm>
            <a:off x="2486160" y="281304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4"/>
          <p:cNvSpPr/>
          <p:nvPr/>
        </p:nvSpPr>
        <p:spPr>
          <a:xfrm>
            <a:off x="3130560" y="33829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6"/>
          <p:cNvSpPr/>
          <p:nvPr/>
        </p:nvSpPr>
        <p:spPr>
          <a:xfrm>
            <a:off x="349200" y="496800"/>
            <a:ext cx="796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出下面各数，然后把它们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个人的头发 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个人的血管总长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一年平均眨眼睛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海世博会共有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志愿者，累计参      观人数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08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"/>
          <p:cNvSpPr/>
          <p:nvPr/>
        </p:nvSpPr>
        <p:spPr>
          <a:xfrm>
            <a:off x="1119240" y="1754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八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，九万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8"/>
          <p:cNvSpPr/>
          <p:nvPr/>
        </p:nvSpPr>
        <p:spPr>
          <a:xfrm>
            <a:off x="1119240" y="28479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四千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9"/>
          <p:cNvSpPr/>
          <p:nvPr/>
        </p:nvSpPr>
        <p:spPr>
          <a:xfrm>
            <a:off x="1119240" y="3905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五千五百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5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0"/>
          <p:cNvSpPr/>
          <p:nvPr/>
        </p:nvSpPr>
        <p:spPr>
          <a:xfrm>
            <a:off x="1119240" y="5526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两百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，七千三百零八万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30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2"/>
          <p:cNvSpPr/>
          <p:nvPr/>
        </p:nvSpPr>
        <p:spPr>
          <a:xfrm>
            <a:off x="279360" y="1454040"/>
            <a:ext cx="818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把整万的数改写成用“万”作单位的数。方法就是把个级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去掉，写成一个“万”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1:50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